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95797"/>
        <c:axId val="43560769"/>
      </c:barChart>
      <c:catAx>
        <c:axId val="24295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60769"/>
        <c:crosses val="autoZero"/>
        <c:auto val="1"/>
        <c:lblAlgn val="ctr"/>
        <c:lblOffset val="100"/>
        <c:noMultiLvlLbl val="0"/>
      </c:catAx>
      <c:valAx>
        <c:axId val="43560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95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548-AE49-4323-8814-A5C0F36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229-0368-4579-9DFE-67BB421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F48-19F9-4CDB-AC02-EC36460F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5DA-D403-437F-85ED-349E2521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7FA-8A11-4857-9B28-052F6EB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0FA-A2F8-4209-B153-5227052D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2BE-5601-45DE-B73B-CBA2838E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FCE-006F-407D-9F30-BC52789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152-E147-4121-985B-027F4122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05A-4FE9-4FBD-8629-E6CF1C82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7CB-DC9D-4BEA-80BA-8AFC4FA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E68-8513-4DDE-AE8B-8D7D6CC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C7FAA-5C1F-47D0-9952-EE21FE6015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