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23575"/>
        <c:axId val="928836"/>
      </c:barChart>
      <c:catAx>
        <c:axId val="98323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836"/>
        <c:crosses val="autoZero"/>
        <c:auto val="1"/>
        <c:lblAlgn val="ctr"/>
        <c:lblOffset val="100"/>
        <c:noMultiLvlLbl val="0"/>
      </c:catAx>
      <c:valAx>
        <c:axId val="928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23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19E-765F-4A0A-B69A-FF7DBA70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4C3-2C28-4A80-A09E-FC978CE2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FC5-881C-4EFA-8E5A-C3D46601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1BB-27E4-45E4-ACD6-9F013CA5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12C-A1F5-468B-AC16-76ADEB86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CFB-DE98-4EFC-BC66-E49135D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B54-FE96-4A1D-905B-EE4D62EF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31E-5A5F-475D-AE6A-F85892BD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F18-E377-4539-8208-7B598EF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0EB-6EF8-49AE-9057-BBD15EE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48D-900D-413B-9008-4175113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815-E170-4CEA-B464-EC6C2276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7FFAA-B836-453E-8A47-9D22BF67F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