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08480"/>
        <c:axId val="69235808"/>
      </c:barChart>
      <c:catAx>
        <c:axId val="67008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35808"/>
        <c:crosses val="autoZero"/>
        <c:auto val="1"/>
        <c:lblAlgn val="ctr"/>
        <c:lblOffset val="100"/>
        <c:noMultiLvlLbl val="0"/>
      </c:catAx>
      <c:valAx>
        <c:axId val="69235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08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92E-4DA0-411E-AAE2-A3C90D4A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895-D8BD-4190-A7DD-1B42F2C0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BCB-5EBA-4788-A9D6-5432F2F9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620-234F-4F6E-A818-51358117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E0B-A7E7-4811-A878-82760905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BC6-F871-46D8-9F96-FC815D20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F0D-F7DE-4031-88D6-EDD82210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C78-F0B5-4C45-B438-E41AA2E2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188-0B5F-49D7-8A69-F266ADBA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F3B-7B0E-497E-B939-114C5F0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26E-BAEA-4FCA-8315-3394EE8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BB2-A863-4FE5-914D-CD41DBED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4F43F-18DC-43BA-BD1C-815845A3DB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