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35507"/>
        <c:axId val="35530395"/>
      </c:barChart>
      <c:catAx>
        <c:axId val="87235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30395"/>
        <c:crosses val="autoZero"/>
        <c:auto val="1"/>
        <c:lblAlgn val="ctr"/>
        <c:lblOffset val="100"/>
        <c:noMultiLvlLbl val="0"/>
      </c:catAx>
      <c:valAx>
        <c:axId val="35530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5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0F9-EA7F-4728-AD32-A12B1B4F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CF5-7B66-4120-9A09-B13DD057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C09-9530-4C55-82EE-61E1375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250-6256-4BC1-A5A7-E14D9DC0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D79-8331-473B-BDC9-D22F271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26A-858B-4471-839E-5E9E581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4B1-0D0E-4296-BE0F-B054343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484-5B4B-4FF4-9414-868CC8DC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F60-975B-44D3-9258-9DF4D6E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5BA-AEBD-4328-A20D-4202235E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7F3-8399-4C5D-A84C-A66870BF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3AD-41FE-47EE-A285-4E32F8F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55EBC-5F3B-4D40-A5D2-9960D3AB08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