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32213"/>
        <c:axId val="84191094"/>
      </c:barChart>
      <c:catAx>
        <c:axId val="43032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91094"/>
        <c:crosses val="autoZero"/>
        <c:auto val="1"/>
        <c:lblAlgn val="ctr"/>
        <c:lblOffset val="100"/>
        <c:noMultiLvlLbl val="0"/>
      </c:catAx>
      <c:valAx>
        <c:axId val="84191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32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FCD-A68E-47EA-93A9-8E81D306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C26-E2CB-4402-B54F-CC53CE32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7A4-BC5B-4ECD-AF06-16398A98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FF2-83A2-4EAD-A14C-DEA825D7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3EE-64A9-4133-8715-566EE186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042-6BCA-4134-A684-FC72353C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002-1535-4519-B1DF-67F1F4F6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4E9-491C-4DCF-91A7-5428E06B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7EE-F3F2-449B-A2BC-AF53379C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CBB-776C-4664-AAB2-514ABA6F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2B0-17A6-4A78-AED6-6EB8D9C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783-C3CC-4D3D-B110-E9DB82B2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95D68-909E-4A5B-B4B3-41E5FD1EED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