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57763"/>
        <c:axId val="58099647"/>
      </c:barChart>
      <c:catAx>
        <c:axId val="85257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99647"/>
        <c:crosses val="autoZero"/>
        <c:auto val="1"/>
        <c:lblAlgn val="ctr"/>
        <c:lblOffset val="100"/>
        <c:noMultiLvlLbl val="0"/>
      </c:catAx>
      <c:valAx>
        <c:axId val="58099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57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7ED-76BA-4952-A993-C1111348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DF9-AAA3-46D8-BFC2-756F59F6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51D-28A1-4400-8917-51F64DFC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477-9467-42D1-865B-1FD9FB77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940-1663-4EC2-A356-3A0F15D5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32B-42C7-45F2-A3F7-870EB2A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E93-E143-482C-8705-6D2D9533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D3C-B12F-4121-BA54-F1681268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E55-C74A-4E4F-87D3-2386921A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4BC-6F7F-4ACF-9A00-2AEA012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C9E-911D-47BE-8677-6FB644F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AC5-378D-4860-A1A2-388088E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CFD50-374E-47D2-8C97-5ED4C62554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