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62179"/>
        <c:axId val="55714996"/>
      </c:barChart>
      <c:catAx>
        <c:axId val="46862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14996"/>
        <c:crosses val="autoZero"/>
        <c:auto val="1"/>
        <c:lblAlgn val="ctr"/>
        <c:lblOffset val="100"/>
        <c:noMultiLvlLbl val="0"/>
      </c:catAx>
      <c:valAx>
        <c:axId val="55714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62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A09-3F10-4CAD-832C-CB7405A0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41C-3069-4211-9217-BA16C41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0CB-E89B-4710-8134-4AB5B6EF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DF8-1800-47A6-8B72-D7B69236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A0A-F51C-4FAB-AAAC-6B8EF77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3F2-6AC6-40A6-A3F2-D8BA8C03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F03-17B7-462C-AD3C-2A616098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A5D-B278-4B1C-A6E2-CD8894EE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B27-BE3E-4B88-A566-1FCE9798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CCA-8C0C-4F0D-8C86-7FCC7AC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92A-752F-416C-A2DD-4873721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855-5227-47D2-99DC-11E1A46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1B0C-AEA4-498A-AE00-30067BB1C8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