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811533"/>
        <c:axId val="43754002"/>
      </c:barChart>
      <c:catAx>
        <c:axId val="638115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54002"/>
        <c:crosses val="autoZero"/>
        <c:auto val="1"/>
        <c:lblAlgn val="ctr"/>
        <c:lblOffset val="100"/>
        <c:noMultiLvlLbl val="0"/>
      </c:catAx>
      <c:valAx>
        <c:axId val="437540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115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5A47-B423-425A-A544-8EC3B936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F419-B25F-4352-826E-FD76A419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0535-6E96-4438-A378-7B3BE321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49F8-B91F-4B59-8D1E-F7CF3FC8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C667-7A7F-4F58-B870-EFE0413E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3418-A46B-4524-B641-A82DD39B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A5B9-8E06-415D-ADB8-FDC63A4B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62AF-A529-4F25-A10F-D14495D5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616B-5C7A-4590-9372-673E54E1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10F6-4AAE-4D2A-AA7E-D64932A8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FF60-5885-4306-AF83-EAC03DD9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4078-70D7-4EB0-9059-C655F75E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D62FF-D838-4995-B120-D77C738592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