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20920"/>
        <c:axId val="82901567"/>
      </c:barChart>
      <c:catAx>
        <c:axId val="65020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01567"/>
        <c:crosses val="autoZero"/>
        <c:auto val="1"/>
        <c:lblAlgn val="ctr"/>
        <c:lblOffset val="100"/>
        <c:noMultiLvlLbl val="0"/>
      </c:catAx>
      <c:valAx>
        <c:axId val="82901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20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681-8B31-4DCE-A248-29DE73B3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F04-7375-4AA0-A150-7EF3B32A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519-8E9D-4ADC-8AB2-5824D7C2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DA2-B1F1-4183-A701-BC33ECA5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604-7A4B-4E95-A0F1-FC3BF1F0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8A9-7A2F-4F91-B4F0-260781B4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B3D-7327-41BD-A54D-3CA9C2EA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157-DEC2-4F1E-BDE1-FD5CAB5C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A0A-23EB-49FA-AAA8-90E98F5B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459-D5BA-467A-887F-EED83AC0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3934-E3D6-48BD-A2A5-CF8ADA55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CDE-83B0-4BA9-B4B9-187163FC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71F0F-683A-432C-9169-DF5E1AC182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