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88226"/>
        <c:axId val="16233668"/>
      </c:barChart>
      <c:catAx>
        <c:axId val="99088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33668"/>
        <c:crosses val="autoZero"/>
        <c:auto val="1"/>
        <c:lblAlgn val="ctr"/>
        <c:lblOffset val="100"/>
        <c:noMultiLvlLbl val="0"/>
      </c:catAx>
      <c:valAx>
        <c:axId val="16233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88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170-0D1A-41AB-A250-700CD4FE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B36-710A-4441-B7AF-91675040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345-3ED8-41EB-BC95-C10964BE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62D-DDF3-4AD5-86BF-87B2EC1C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279-123D-494C-A81A-4A5D2DAA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C64-DD1A-49F5-BD31-089AC07C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1F0-C0A0-4A9E-B8AE-C4FF410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B2A-7953-428B-8679-D1062311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EA2-6C5E-4ADF-845B-312B7563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059-FE83-45A0-A22C-ECF20726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CD3-BDD1-457C-BCE8-70830D3C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768-552B-4C5E-AFEE-078BE24B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B2FC5-9A2D-45D0-B0FB-6F41736CBA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