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06028"/>
        <c:axId val="2050393"/>
      </c:barChart>
      <c:catAx>
        <c:axId val="29306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0393"/>
        <c:crosses val="autoZero"/>
        <c:auto val="1"/>
        <c:lblAlgn val="ctr"/>
        <c:lblOffset val="100"/>
        <c:noMultiLvlLbl val="0"/>
      </c:catAx>
      <c:valAx>
        <c:axId val="2050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06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B5A7-97B8-487E-87D9-D1899788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04B-EA51-4CA5-9514-598A426D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492-E597-4873-AA0B-C373069B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DAB-3D4C-413D-9055-CCC7770F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750-C964-4F3D-B6E8-DDB8F985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90F-1E54-4DF1-889D-B2F01E20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ECB-F4D3-4500-BAF5-19735735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B44-9E7D-414F-9EA5-4DAC0A79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87C-9D7A-42CF-8FEC-4EFF16E9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B0C-B955-4398-B443-DEF0D2B3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415-A3D4-43B6-A7AC-D71CDAF0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FCD-AFC2-41DC-8AFA-CF3FC0BF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A03A6-4815-4CD8-A4B1-08577667A5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