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73847"/>
        <c:axId val="16499343"/>
      </c:barChart>
      <c:catAx>
        <c:axId val="77873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99343"/>
        <c:crosses val="autoZero"/>
        <c:auto val="1"/>
        <c:lblAlgn val="ctr"/>
        <c:lblOffset val="100"/>
        <c:noMultiLvlLbl val="0"/>
      </c:catAx>
      <c:valAx>
        <c:axId val="16499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3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E25-41CA-492F-A04B-7486DF7E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3E-6949-432C-98F3-181F44C9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59B-30FD-476C-A2D4-B1B6FCB4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3B1-24E8-403C-BD59-07B891D1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566-0874-4861-AF2D-D02219D6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E0A-75E4-4F5B-8B5C-54031115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6C2-A589-44FD-B8BD-326EDCE5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41A-9A66-4618-A318-423DAF8F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6AF-539C-49FA-91BF-802DBDB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0F9-21EA-4951-9D7A-8C259B8D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5E5-2FA2-49E5-996C-ED57DFF6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B22-7DB7-4235-A120-7EDE514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193F-B297-4A6E-8D77-7653BA737D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