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15224"/>
        <c:axId val="46660703"/>
      </c:barChart>
      <c:catAx>
        <c:axId val="50615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60703"/>
        <c:crosses val="autoZero"/>
        <c:auto val="1"/>
        <c:lblAlgn val="ctr"/>
        <c:lblOffset val="100"/>
        <c:noMultiLvlLbl val="0"/>
      </c:catAx>
      <c:valAx>
        <c:axId val="46660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15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C4B-D667-428B-9781-2EF4DD1F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C78-EC48-47E4-A600-CBB443AD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532-B83F-4BE6-B9CE-9FF08785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FBF-9DF7-4645-9AA6-416E5377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4B6-CF54-439A-BB53-51EF8E20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7EDF-CB46-4430-940B-E1D44CE6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A3B-F1D2-4E63-B0DA-7B30624B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C5C-15DF-4E19-B710-1B95DCDB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BCD-01AE-4F38-9307-EE997130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213-8940-4938-9CAC-4A43406F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42ED-2AF9-4DD8-986D-6CBFE1D8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F57-6718-450A-B0DA-7BEDE534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FB57C-FF93-4046-9B27-1A10D9CB05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