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68916"/>
        <c:axId val="28028738"/>
      </c:barChart>
      <c:catAx>
        <c:axId val="48768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28738"/>
        <c:crosses val="autoZero"/>
        <c:auto val="1"/>
        <c:lblAlgn val="ctr"/>
        <c:lblOffset val="100"/>
        <c:noMultiLvlLbl val="0"/>
      </c:catAx>
      <c:valAx>
        <c:axId val="28028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68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5C1-5B4A-47E8-B391-897FAF8A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F05-43F5-4C82-B8C5-521D5BAD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5F5-61C9-4DA4-84FC-7037A284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5FE-7D56-4A6B-96A3-9812A304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BD5-8CBA-44CF-887B-8B5BD56B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CC4-B001-4DCF-A2CD-378F5B76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355-8146-4753-99E1-171E9BFC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1F7-6672-4A36-9C10-E18A4921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8E1-7542-417B-86C4-B58230EE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5D9-3977-4F1C-AF9B-7BCE8C4F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A46-93C1-4C42-8C41-B81AF73F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D7C-4AD2-442F-B2FC-1DF0EC94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9561B-3FA0-4967-8395-8ECC5F13D2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