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77297"/>
        <c:axId val="4697007"/>
      </c:barChart>
      <c:catAx>
        <c:axId val="95877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7007"/>
        <c:crosses val="autoZero"/>
        <c:auto val="1"/>
        <c:lblAlgn val="ctr"/>
        <c:lblOffset val="100"/>
        <c:noMultiLvlLbl val="0"/>
      </c:catAx>
      <c:valAx>
        <c:axId val="4697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77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EA3-8433-45ED-97D0-D926D4A7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28B-4979-4DC7-8F12-5F77BD82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205-6753-475D-8AF1-8B76362E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8E2-A7D6-44CB-B1CB-43F4CDEC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96E-0F52-4122-A287-7DC1428C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695-1334-4E9E-8842-D65D2E7A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C38-21D1-4391-BD61-A30E727B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E2A-5751-474A-A850-C9326305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B51-F734-43DF-8507-809E487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053-706C-4902-BB74-E2CFE165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8A6-ED0C-4737-86DD-8282E19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858-E0D1-406D-80AD-81E7849D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D5D5D-F832-4047-9F50-142227C477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