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481050"/>
        <c:axId val="61149996"/>
      </c:barChart>
      <c:catAx>
        <c:axId val="11481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49996"/>
        <c:crosses val="autoZero"/>
        <c:auto val="1"/>
        <c:lblAlgn val="ctr"/>
        <c:lblOffset val="100"/>
        <c:noMultiLvlLbl val="0"/>
      </c:catAx>
      <c:valAx>
        <c:axId val="61149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81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BC9-61A2-4676-8954-363FF82F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C6A6-A7EB-4582-B17A-2E7DCDF8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9B9-BC5F-4B0C-9D71-1799A96F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2AC-A9F9-4F15-905E-5181210F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5DCE-B7E1-40B3-80D1-808CA95C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758-DC99-41D4-A07C-871D4769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800-B269-42B6-B5D8-2F17F39D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BF3-7482-4A6E-A433-AD5604F8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AD3-EC31-413F-935D-050137CE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2BA-135B-45F7-9BC3-8E62FF6F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81B6-71EB-4E43-8BF9-CA339E8C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81D6-0AAE-46AD-83F0-ADC596F4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DC0DB-5177-46AD-8558-D66DD64957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