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322786"/>
        <c:axId val="46122242"/>
      </c:barChart>
      <c:catAx>
        <c:axId val="893227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122242"/>
        <c:crosses val="autoZero"/>
        <c:auto val="1"/>
        <c:lblAlgn val="ctr"/>
        <c:lblOffset val="100"/>
        <c:noMultiLvlLbl val="0"/>
      </c:catAx>
      <c:valAx>
        <c:axId val="461222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3227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9D02-DE0D-4A60-8CB8-37CD99A9A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CE84-C196-4D65-A1FF-7D49719F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69B5-866F-4B89-BB65-C5DA978FC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B5BC-374C-4292-A12E-5B062F3FA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2F27-92BB-461B-9BA4-1E84D196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C623-383E-4495-9CB9-8B1FAE86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BFF3-5652-4799-AA48-4EF81ABF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32C9-FADC-4148-97B2-D516C920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4CB4-A657-4A77-9251-95ECB15F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36B9-A59B-4934-A7E3-2C6093BB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CFF3-BF3F-4C2D-9CBE-89B16E9A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1CAE-FDD0-4999-8F76-6F2209D6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3068B1-3F03-48C1-9737-A96E06070B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