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995597"/>
        <c:axId val="79678989"/>
      </c:barChart>
      <c:catAx>
        <c:axId val="299955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678989"/>
        <c:crosses val="autoZero"/>
        <c:auto val="1"/>
        <c:lblAlgn val="ctr"/>
        <c:lblOffset val="100"/>
        <c:noMultiLvlLbl val="0"/>
      </c:catAx>
      <c:valAx>
        <c:axId val="796789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955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FCC0-25C6-4927-99E8-D4341E19E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B29A-8868-4CE8-9485-2752E5F1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F530-FF24-426D-BAB8-3F1B9BB75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268C-3EE8-4B03-BAF5-14C1B3BB7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2D94-2306-4F78-AF1D-D6619967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72E8-4BC3-41C7-B0B5-AED11543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DB37-1BD5-4D3F-8BE5-0608AAEC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E45A-80B3-45E0-B898-26CD9442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6352-CEE1-49D4-BC0A-FD640F9E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AE8D-7951-4D23-984F-B34EBDC7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583D-FD79-42D2-97A2-F0371687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6B2C-F6EE-4FE1-B68D-3D629D53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8E0CD-97B9-4BDE-A922-D8846B2BEC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