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90378"/>
        <c:axId val="35587021"/>
      </c:barChart>
      <c:catAx>
        <c:axId val="34490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7021"/>
        <c:crosses val="autoZero"/>
        <c:auto val="1"/>
        <c:lblAlgn val="ctr"/>
        <c:lblOffset val="100"/>
        <c:noMultiLvlLbl val="0"/>
      </c:catAx>
      <c:valAx>
        <c:axId val="35587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90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70B-D9B8-4B4D-A90E-11042C6A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633-63C1-4508-A497-459CADE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57E-5CFC-4F89-9B4B-54CF21F3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6CC-F9E9-43A2-B102-21B3F315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632-8DAB-4B27-AB62-409D1F08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930-BDA6-47EE-8547-FF25B12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8BD-C754-4F9A-98B9-74A5C72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E05-752C-4685-AC51-E48BDDD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0CF-8FA9-4B0B-988F-C502E83A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7F5-D6DE-463E-B651-113B365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523-9980-4F38-8F84-6B17A21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9EF-1520-4A52-9818-098707E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FBA6-CB2C-4B7E-92F9-3C4D7ECA87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