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57353"/>
        <c:axId val="8004463"/>
      </c:barChart>
      <c:catAx>
        <c:axId val="72257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463"/>
        <c:crosses val="autoZero"/>
        <c:auto val="1"/>
        <c:lblAlgn val="ctr"/>
        <c:lblOffset val="100"/>
        <c:noMultiLvlLbl val="0"/>
      </c:catAx>
      <c:valAx>
        <c:axId val="800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7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152-24C9-456B-99B0-598FA1AD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80A-46F4-4859-9D05-663B0B6A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5C0-2599-4084-9457-2EEA9C29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5B6-80DA-42B0-94F2-D9B7C2FE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1C2-603D-47FD-94EF-32F3A02E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520-B95E-4727-81FA-7861F0E4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5B2-6520-4A9B-B968-0F6AA79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2EA-A43A-4523-9763-36B320AF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3C5-80C7-479D-84E1-D96081D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E87-252B-4CC2-BA6C-21900A9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FD3-6DAF-4D74-839A-A3DA4EC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DF1-1759-42F0-8079-3C32B0E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E4645-5957-497A-B2C9-25C04E796C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